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89952"/>
        <c:axId val="80369685"/>
      </c:barChart>
      <c:catAx>
        <c:axId val="34389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69685"/>
        <c:crosses val="autoZero"/>
        <c:auto val="1"/>
        <c:lblAlgn val="ctr"/>
        <c:lblOffset val="100"/>
        <c:noMultiLvlLbl val="0"/>
      </c:catAx>
      <c:valAx>
        <c:axId val="80369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89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5A6-C0F6-4E96-87BE-DE99A89B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E55-98D5-4635-A485-897A152E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0B9-0153-413B-B346-58C3297B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361-0240-450D-8F93-29542656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F48-B984-4813-BDD8-83F94071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67C-7DA8-478C-A67E-70784995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A04-26CD-4057-A2E4-8C5A1B92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2D9-167C-479D-A33F-F7910429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8C1-F3C5-4F2F-88B3-585FB25B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34DE-F96F-464F-92A3-FE99F002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F4C6-3A1E-4133-8FF6-F9E7FF17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459-5838-4DCB-9492-CD3AD717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9B03D-FDC2-48AF-9B6C-CEA6460C37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